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D940457-0718-43E1-92A3-522344BFB6B0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C6C0DEC-1D3E-4D99-B02B-7F4821D9EBDE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cm98\Brazil\Sovereign\Banco Central\rdshgs.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B12028C-AC1A-4C1B-A8EE-949591CFEA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FBC5F92-843D-4BEB-BEDE-888EC0C8408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59DCF5B-38B3-4362-91E8-2082C9EA293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</a:rPr>
              <a:t>Taxa de desconto média ponderada pelo valor (Cielo e Redec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idera cartões de crédito e de débito: cálculo pela lucrativid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DCAE3C9-6C94-432D-9801-785117437A6D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CC846E2-17DD-4282-96E2-57360D1B4D32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1C69C82-EC74-40BF-9DC5-C2685EAFB54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572FEE6-DA29-41C2-9D5C-2BB666B80E1D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 de anuidade Hipercard = 0 (z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AFBBC97-6F63-48AE-9914-357937E1757B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07314B5-C7E1-4397-8B07-76634A753E42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43BEAEB-7D13-4A90-9A2D-7B76F9C845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CA8BE9A-941F-4D0F-867B-788B11C04050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9DBA4BE-9F75-4D00-8F8A-C563540BCBB9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FB35B06-A149-4D16-B305-A2ED83D03A0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8144490-AF51-4194-BD7F-8BE9C314DF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1934EE7-66AA-4788-B649-9A5257AD958B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1C1C6FD-4E57-4DD2-BBE9-F5017EC5B926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92F8E90-512F-41A6-A130-7EAE5595A40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ADAA37E-6144-4B3C-A262-9B7E15F83F60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27AFBA6-777C-4532-803A-2F239D6F956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37451C2-9B38-4A8D-BA15-DDC6BD8EC3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43FA986-6E32-45C6-9CF0-7383E74FADC9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B6306CE-3793-4EA3-916C-AF4EEE93BC5B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F63EAE9-5312-43DD-9B09-8FC16DF6CA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848D912-4C52-4ABA-BDED-7B11B8534F36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D7425E2-35A7-4AAA-B417-B0B0BD75056A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5988DFC-2A1C-487C-8744-C090D772B0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E69ABA3-BFEF-43DF-93B0-8715A5555FDC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7279B9D-19B2-4F0A-B848-F6AE5A475C4B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9BC965B-3BED-48F4-8AA4-E4366849EF6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F7F26E7-4194-4992-A0FE-A6AFB1145B1A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3BED948-885C-4661-BBFC-461FC99B0DC0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E0DE9FC-77D4-43C0-95D5-896E8410B58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90B5BFA-605E-4E50-99C4-D8987E346B4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1B12260-79FC-4742-8C49-690BF43270FA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5A90E1D-3DE9-4A11-9776-7331909A9F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89FE-3C7A-4C3A-8295-D409AB072D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67B3-6945-43BE-9A62-2F19174295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0B16-AB69-4EBC-8793-CC3A798F49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BEF4-97C3-4E5B-B404-82FA07AE7E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90D3-ABFB-435E-A06A-E46036CC71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2BC8-7D0D-454F-AF3E-787C248448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C963-3E8D-495C-9EBE-FDD84EA8C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8ED1-7E00-44C9-9B4E-59B1B13990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CEC9-6F97-43FE-B842-FF07D2BB8D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E4ED-5B78-432D-A01B-F88AC06D15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CD4D-EB23-42CD-BD20-40DBB4A10E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5D77-DBBC-41D3-8866-912D1AD230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E0473A-4B8E-4FAB-B794-964894288AD3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B951EC-2CF3-42D2-A5A5-0A6199C3EF7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432280" y="107640"/>
            <a:ext cx="567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05F0-A698-4442-99C2-9FD0358DE2D0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280" y="1897200"/>
            <a:ext cx="899964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issão de Desenvolvimento Econômico, Indústria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ércio da Câmara dos Depu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udiência Pública - Atuação do Segmento de Cartão de Crédito n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1280" y="5037120"/>
            <a:ext cx="907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ngresso - Brasília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julho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 – aluguel mé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3360" y="1249200"/>
            <a:ext cx="902988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ângulo 5"/>
          <p:cNvSpPr/>
          <p:nvPr/>
        </p:nvSpPr>
        <p:spPr>
          <a:xfrm>
            <a:off x="4430880" y="1177920"/>
            <a:ext cx="3587760" cy="4613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4"/>
          <p:cNvSpPr/>
          <p:nvPr/>
        </p:nvSpPr>
        <p:spPr>
          <a:xfrm>
            <a:off x="809640" y="1177920"/>
            <a:ext cx="3621240" cy="4633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66760" y="1036800"/>
            <a:ext cx="857232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do mercad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tinação da taxa de desc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331F-2060-4FE1-A0C4-D78BB81CFDB6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550200" cy="3765600"/>
          </a:xfrm>
          <a:prstGeom prst="rect">
            <a:avLst/>
          </a:prstGeom>
          <a:ln w="0">
            <a:noFill/>
          </a:ln>
        </p:spPr>
      </p:pic>
      <p:sp>
        <p:nvSpPr>
          <p:cNvPr id="126" name="Chave esquerda 11"/>
          <p:cNvSpPr/>
          <p:nvPr/>
        </p:nvSpPr>
        <p:spPr>
          <a:xfrm>
            <a:off x="1042920" y="1700280"/>
            <a:ext cx="216000" cy="29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952720"/>
              <a:gd name="textAreaBottom" fmla="*/ 29473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aixaDeTexto 12" descr=""/>
          <p:cNvPicPr/>
          <p:nvPr/>
        </p:nvPicPr>
        <p:blipFill>
          <a:blip r:embed="rId2"/>
          <a:stretch/>
        </p:blipFill>
        <p:spPr>
          <a:xfrm>
            <a:off x="609480" y="1773360"/>
            <a:ext cx="408240" cy="2805120"/>
          </a:xfrm>
          <a:prstGeom prst="rect">
            <a:avLst/>
          </a:prstGeom>
          <a:ln w="0">
            <a:noFill/>
          </a:ln>
        </p:spPr>
      </p:pic>
      <p:pic>
        <p:nvPicPr>
          <p:cNvPr id="128" name="CaixaDeTexto 13" descr=""/>
          <p:cNvPicPr/>
          <p:nvPr/>
        </p:nvPicPr>
        <p:blipFill>
          <a:blip r:embed="rId3"/>
          <a:stretch/>
        </p:blipFill>
        <p:spPr>
          <a:xfrm>
            <a:off x="7881840" y="2779560"/>
            <a:ext cx="555840" cy="1944720"/>
          </a:xfrm>
          <a:prstGeom prst="rect">
            <a:avLst/>
          </a:prstGeom>
          <a:ln w="0">
            <a:noFill/>
          </a:ln>
        </p:spPr>
      </p:pic>
      <p:sp>
        <p:nvSpPr>
          <p:cNvPr id="129" name="Chave direita 14"/>
          <p:cNvSpPr/>
          <p:nvPr/>
        </p:nvSpPr>
        <p:spPr>
          <a:xfrm>
            <a:off x="7524720" y="2852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728720"/>
              <a:gd name="textAreaBottom" fmla="*/ 17233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1280" y="819000"/>
            <a:ext cx="9001440" cy="5408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108000" bIns="0" anchor="ctr">
            <a:normAutofit/>
          </a:bodyPr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Resolução nº 3.919, de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adronização dos serviç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mplificação de tarifas ao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Majoração de preços após 365 dias do último valor divul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Divulgação e clareza d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Planos de recompensa ou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Detalhamento de encargos e custo efetivo to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Encaminhamento de cartão de crédito somente a expressa solicitação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ossibilidade de cancelamento tempes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Circular nº 3.512,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Limitação do valor do rotativo em relação ao total da f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Maior transparência para o consumidor em relação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s, encargos financeiros , obrigações e dire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ndividamento mais restrito por meio do cartão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Número de Slide 7"/>
          <p:cNvSpPr/>
          <p:nvPr/>
        </p:nvSpPr>
        <p:spPr>
          <a:xfrm>
            <a:off x="8640720" y="10800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068E-587E-4E8E-847A-184A91380DB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missor e Portador -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médio da Tarifa de Anu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1520" y="1757520"/>
            <a:ext cx="885528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financiado no crédito rotativo sobre volume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9200" y="1819440"/>
            <a:ext cx="901404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enár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1280" y="1006200"/>
            <a:ext cx="90014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Comunidade Europeia e Austrá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Intervenção das autoridades locais na tarifa de intercâmbio (cartão de crédito e débito): tarifa definida pelo mercado acima da tarifa ótima (bem-estar social) e, por ser resultado de acordo coletivo entr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(desconto ou sobrepreço), quando justificado, cada país pode decidir por não permitir o sobre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E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regulação: cartão de dé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 de intercâmbio limitada a um valor máximo obtido pela soma de US$ 0,21 por transação mais 0,05% do valor da transação (outubro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proíbe arranjos de exclusividade de rede de processamento das transações (abril de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914400"/>
            <a:ext cx="9072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Objetivo do Banc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segurança e eficiência do Sistema de Pagamentos Brasil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do bem estar social na prestação de serviços de pag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studo marco legal sobre arranjo de pag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Competência CMN e Banc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601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Papeis complementares da Regulação e Auto-regul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71280" y="2857680"/>
            <a:ext cx="8998200" cy="16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rdilson Fernandes Queir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rdilson.queiroz@bcb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+55 (61) 3414-23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14400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262080" indent="-262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m das exclusividades entre credenciadores e proprietários de esqu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Novos credenci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stema de controle de garant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gente neutro para a compensação e para a liquidação das 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Desenvolvimento de esquema local de cartões de dé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Interoperabilidade parcial de serviço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na transparência das tari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to-regulação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 – relatório da indústria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 na 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8"/>
          <p:cNvSpPr/>
          <p:nvPr/>
        </p:nvSpPr>
        <p:spPr>
          <a:xfrm>
            <a:off x="4592520" y="1087560"/>
            <a:ext cx="3942000" cy="452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7"/>
          <p:cNvSpPr/>
          <p:nvPr/>
        </p:nvSpPr>
        <p:spPr>
          <a:xfrm>
            <a:off x="731880" y="1109520"/>
            <a:ext cx="3890880" cy="450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cartões emitidos e ativos (milh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69960" y="1139760"/>
            <a:ext cx="784368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quantidade de trans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0480" y="1036800"/>
            <a:ext cx="9043920" cy="52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modalidade do cartã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685880"/>
            <a:ext cx="917748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forma de captura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parcelament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e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EDCA-FF02-445E-9BD6-E7FE6BB24B2A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0" y="3424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14560" y="1096920"/>
            <a:ext cx="6895800" cy="275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23920" y="3535200"/>
            <a:ext cx="6896160" cy="27514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0"/>
          <p:cNvSpPr/>
          <p:nvPr/>
        </p:nvSpPr>
        <p:spPr>
          <a:xfrm>
            <a:off x="1554120" y="2286000"/>
            <a:ext cx="61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2"/>
          <p:cNvSpPr/>
          <p:nvPr/>
        </p:nvSpPr>
        <p:spPr>
          <a:xfrm>
            <a:off x="1565280" y="4826160"/>
            <a:ext cx="61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cred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92D2-3B9A-4DB3-B16F-86BD75D3E681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27160" y="1087560"/>
            <a:ext cx="6869160" cy="269712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073160" y="3525840"/>
            <a:ext cx="6896160" cy="275112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7"/>
          <p:cNvSpPr/>
          <p:nvPr/>
        </p:nvSpPr>
        <p:spPr>
          <a:xfrm>
            <a:off x="0" y="34336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11"/>
          <p:cNvSpPr/>
          <p:nvPr/>
        </p:nvSpPr>
        <p:spPr>
          <a:xfrm>
            <a:off x="1533600" y="1930320"/>
            <a:ext cx="61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2"/>
          <p:cNvSpPr/>
          <p:nvPr/>
        </p:nvSpPr>
        <p:spPr>
          <a:xfrm>
            <a:off x="1533600" y="4592520"/>
            <a:ext cx="62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1:44:38Z</dcterms:created>
  <dc:creator>BACEN</dc:creator>
  <dc:description/>
  <dc:language>en-US</dc:language>
  <cp:lastModifiedBy>H</cp:lastModifiedBy>
  <cp:lastPrinted>2002-06-19T00:46:02Z</cp:lastPrinted>
  <dcterms:modified xsi:type="dcterms:W3CDTF">2012-07-05T14:41:24Z</dcterms:modified>
  <cp:revision>3090</cp:revision>
  <dc:subject/>
  <dc:title>Slide sem título</dc:title>
</cp:coreProperties>
</file>